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8C96-7693-4346-B12C-0A6E95DB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B9D2-4E1E-4DD4-9B85-CA57389E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293F-17FC-4B3F-82F3-37DFD37E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3652-0412-47E8-850A-4B157B78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189-046E-4C02-B868-9AC744DB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D09C-B366-48EB-909C-7121B9A6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FB88-D6D4-4C71-BC68-79FE171B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181E-DC5C-43A5-B26E-04A2D072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272E-E7C8-4E34-9C31-E4918A9C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2AF3-9C03-4D39-9ED2-60318B54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404A-BDCD-4B4B-A973-F8FDFA50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ED89-C38D-43D7-97D9-BDC2A658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8466-6D89-4977-8027-79A10876A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s.panzavolta@indire.it" TargetMode="External"/><Relationship Id="rId3" Type="http://schemas.openxmlformats.org/officeDocument/2006/relationships/hyperlink" Target="mailto:a.turchi@indire.it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linked-project.wikispaces.com/WP5+Debriefing+and+evaluation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834920"/>
            <a:ext cx="8453160" cy="14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  <a:ea typeface="宋体"/>
              </a:rPr>
              <a:t>State of progress on debriefing &amp; evalu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27240" y="5681520"/>
            <a:ext cx="3816360" cy="1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6f16"/>
                </a:solidFill>
                <a:latin typeface="Georgia"/>
              </a:rPr>
              <a:t>Silvia Panzavolta,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Georgia"/>
                <a:hlinkClick r:id="rId2"/>
              </a:rPr>
              <a:t>s.panzavolta@indire.it</a:t>
            </a:r>
            <a:r>
              <a:rPr b="0" lang="en-US" sz="1600" spc="-1" strike="noStrike">
                <a:solidFill>
                  <a:srgbClr val="3f6f16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6f16"/>
                </a:solidFill>
                <a:latin typeface="Georgia"/>
              </a:rPr>
              <a:t>Antonella Turchi,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Georgia"/>
                <a:hlinkClick r:id="rId3"/>
              </a:rPr>
              <a:t>a.turchi@indire.it</a:t>
            </a:r>
            <a:r>
              <a:rPr b="0" lang="en-US" sz="1600" spc="-1" strike="noStrike">
                <a:solidFill>
                  <a:srgbClr val="3f6f16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6f16"/>
                </a:solidFill>
                <a:latin typeface="Georgia"/>
              </a:rPr>
              <a:t>ANSA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6f16"/>
                </a:solidFill>
                <a:latin typeface="Georgia"/>
              </a:rPr>
              <a:t>LINKED Management 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6f16"/>
                </a:solidFill>
                <a:latin typeface="Georgia"/>
              </a:rPr>
              <a:t>Brussels, September 30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82640" y="696960"/>
            <a:ext cx="88502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eorgia"/>
              </a:rPr>
              <a:t>Cooper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1600" y="2297160"/>
            <a:ext cx="9171000" cy="22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The quality of the cooperation is very goo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Each partner is playing its ro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Peer learning proces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63600" y="2585880"/>
            <a:ext cx="7697880" cy="31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6f16"/>
                </a:solidFill>
                <a:latin typeface="Georgia"/>
              </a:rPr>
              <a:t>What are your feedback about the points we mentioned?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f16"/>
                </a:solidFill>
                <a:latin typeface="Georgia"/>
              </a:rPr>
              <a:t>Thank you for your contribu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8880" y="2341440"/>
            <a:ext cx="864864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Quality is never an accident; it is always the result of high intention, sincere effort, intelligent direction and skillful execution; it represents the wise choice of many alternative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6280" y="2371680"/>
            <a:ext cx="315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eorgia"/>
              </a:rPr>
              <a:t>“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0960" y="4264200"/>
            <a:ext cx="3502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Georgia"/>
              </a:rPr>
              <a:t>William A. Fo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82640" y="696960"/>
            <a:ext cx="88502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eorgia"/>
              </a:rPr>
              <a:t>Actions do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3560" y="2017800"/>
            <a:ext cx="9171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Quality assurance pla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Problem reporting for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Project partner questionnair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All documents made public through the project site at the following page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linked-project.wikispaces.com/WP5+Debriefing+and+evalu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82640" y="696960"/>
            <a:ext cx="88502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eorgia"/>
              </a:rPr>
              <a:t>Problems reporte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1600" y="2514600"/>
            <a:ext cx="917100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So far, no problems were reported, apart from the fact that due to summer vacations, it has been a little bit difficult to start again…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82640" y="696960"/>
            <a:ext cx="88502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eorgia"/>
              </a:rPr>
              <a:t>Partners questionnair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1600" y="2514600"/>
            <a:ext cx="917100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So far, only one partner has answered the questionnaire. The deadline was August 31°, so please remember to do it when you’re back hom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THANK YOU </a:t>
            </a:r>
            <a:r>
              <a:rPr b="0" lang="en-US" sz="29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82640" y="696960"/>
            <a:ext cx="88502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eorgia"/>
              </a:rPr>
              <a:t>To-do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1600" y="2611440"/>
            <a:ext cx="9171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Evaluation report (end of project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Analysis of questionnaire data (when available) and publication on project sit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82640" y="696960"/>
            <a:ext cx="88502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eorgia"/>
              </a:rPr>
              <a:t>Structure of the final repor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1600" y="1793880"/>
            <a:ext cx="917100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eorgia"/>
              </a:rPr>
              <a:t>Aims</a:t>
            </a: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: analysis of the outputs compared with the description of Work; analysis of outputs themselves; shared views on the proces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eorgia"/>
              </a:rPr>
              <a:t>Expected result</a:t>
            </a: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: common report on the quality of the project also defining some ideas to improve future work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eorgia"/>
              </a:rPr>
              <a:t>Tools</a:t>
            </a: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: interviews with partners; analysis of documents; external reviewer (colleague not involved in the project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82640" y="2236680"/>
            <a:ext cx="87901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6f16"/>
                </a:solidFill>
                <a:latin typeface="Georgia"/>
              </a:rPr>
              <a:t>Debriefing on ongoing outputs and proces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82640" y="696960"/>
            <a:ext cx="88502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eorgia"/>
              </a:rPr>
              <a:t>Outpu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1600" y="1865160"/>
            <a:ext cx="9026280" cy="59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All deliverable due have been don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The quality of the outputs so far is hig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9900"/>
                </a:solidFill>
                <a:latin typeface="Georgia"/>
              </a:rPr>
              <a:t>Methodology used. Multiple views. References to previous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ff9900"/>
                </a:solidFill>
                <a:latin typeface="Georgia"/>
              </a:rPr>
              <a:t>work. Analysis of priorities to partner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Consensus has been searched for and foun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Organizational note: according to us, it has been a very good choice to use a wiki as a project site, since it gives responsibility on everyone but also gives a change to manage file publication in a more flexible wa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 </cp:lastModifiedBy>
  <dcterms:modified xsi:type="dcterms:W3CDTF">2011-02-23T11:43:26Z</dcterms:modified>
  <cp:revision>28</cp:revision>
  <dc:subject/>
  <dc:title>PowerPoint Presentation</dc:title>
</cp:coreProperties>
</file>